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E041-F791-4A4E-8481-F9F901513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8F02-14E3-4BA9-9671-A21478632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6C05-F690-4E68-8B53-CB13BFB1E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3B34-C19F-4984-9C61-3B4F49DA8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8CBD-2FA4-41FE-906C-E1209635E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94D4-EE74-47AE-9948-441441B69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7C53-DA7C-48F0-AD0A-DAFA69F78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C57-ACE5-4B53-9830-E86BA0D2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BC1-49A4-4C77-8D9C-2EBCBAEB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D4C-A1A3-47A9-B30A-03C35863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C20-07B5-4ED2-9598-A016D455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95EE-FEDF-4773-80B6-B6733ECE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4D7-66F4-46A6-9B7A-39EA8B5D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2BB-D792-490C-97D7-8A1B9D3C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679-0AB2-4996-842D-DF61FDB8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E54-38D6-4003-AB8C-D3F98D0C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EBB-9433-432C-9606-86828CF2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43F-DC9B-4C60-BDDA-C1DF8676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FCC-3A70-4BC7-9802-5E2E4B2F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9DF5-9585-47B1-8E19-1B35A93B4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"/><Relationship Id="rId100" Type="http://schemas.openxmlformats.org/officeDocument/2006/relationships/image" Target="../media/image4.png"/><Relationship Id="rId101" Type="http://schemas.openxmlformats.org/officeDocument/2006/relationships/image" Target="../media/image5.png"/><Relationship Id="rId102" Type="http://schemas.openxmlformats.org/officeDocument/2006/relationships/slideLayout" Target="../slideLayouts/slideLayout1.xml"/><Relationship Id="rId10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chord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line of fluid-filled canals running along the sides of fish the enable it to detect movem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lateral l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mphibians are animals that have variable body temperatures and get their heat from external sources. What is this condition call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n ectothe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nidarians are predators that capture or poison their prey using _______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nematocy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name of the body form of a cnidarian that is characterized by a umbrella shaped body with tentacles that hang d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medus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body symmetry of a spon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symmetrical body symme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imals  in the phylum Poriferia inclu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spo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group of invertebrates made up of more than 9000 species of jellyfish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nidari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lugs, snails, and animals that once lived in shells are in this kingd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moll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llusks have what type of symme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bilat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llusks reproduce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Science Teacher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ex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lusks use what to obtain fo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radu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ms are in this classifi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66688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nneli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thropods have this symmet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bilater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thropods reproduce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sexu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2286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762120"/>
            <a:ext cx="1324080" cy="1190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6"/>
          <p:cNvSpPr/>
          <p:nvPr/>
        </p:nvSpPr>
        <p:spPr>
          <a:xfrm>
            <a:off x="1600200" y="9144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ponges and Cnidari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orms and Mollus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8"/>
          <p:cNvSpPr/>
          <p:nvPr/>
        </p:nvSpPr>
        <p:spPr>
          <a:xfrm>
            <a:off x="4495680" y="99072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rthopods and Echinod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ptiles and Bi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m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380880" y="228600"/>
            <a:ext cx="91440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8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220" descr="TITLE"/>
          <p:cNvPicPr/>
          <p:nvPr/>
        </p:nvPicPr>
        <p:blipFill>
          <a:blip r:embed="rId101"/>
          <a:stretch/>
        </p:blipFill>
        <p:spPr>
          <a:xfrm>
            <a:off x="2666880" y="228600"/>
            <a:ext cx="3678480" cy="496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26"/>
          <p:cNvSpPr/>
          <p:nvPr/>
        </p:nvSpPr>
        <p:spPr>
          <a:xfrm>
            <a:off x="152280" y="114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d Amphib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371600" y="266688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thropods _________ are used for prote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71600" y="266688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ir exoskelet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hinoderms are part of this classifi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phylum Echinodermat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hinoderms have this symmet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radi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tiles have this type of sk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sca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_____________ is a lightweight, modified scale that provides insulation to birds and enables fl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fea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long supporting rod in chordates is call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 gas exchange , reptiles are dependent on 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lu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ird is a __________ because it can maintain a constant body temperature and is not dependent on the environmental temperat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endother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nakes cannot regulate that own body temperature.  They are known as 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ectother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ification of Mammals with pouch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aruspi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mmals feed their young from _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mmary glan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notochord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mmals that eat only plants are known as 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herbiv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ime during which placental mammals develop inside the uterus is called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gest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1371600" y="251460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mmals that reproduce by laying eggs are called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monotre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Final Jeopard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chordates, the hollow structure that runs along the dorsal (back) part of the body is called th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nerve ch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animal that has a hollow nerve chord, a notochord, pharyngeal pouches and a tail that extends beyond the anus is classified as a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lrobinson</cp:lastModifiedBy>
  <dcterms:modified xsi:type="dcterms:W3CDTF">2008-04-07T20:10:19Z</dcterms:modified>
  <cp:revision>55</cp:revision>
  <dc:subject/>
  <dc:title>No Slide Title</dc:title>
</cp:coreProperties>
</file>